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8317-0537-4720-A30C-08B921A2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7C7-B765-49B0-B5EC-9C3DA957E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995-9C8D-4B19-AF09-21381ED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C92-8C50-4C25-9892-700DB172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36A-3BCF-42D8-BF4E-E64ECFD9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897-6599-40A2-8EB1-4B200399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F261-E3E4-45C7-B0A5-C41EC7FD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AA1-A480-4280-BCDC-97A4813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F99-641B-4CC7-9EF3-B2F3BEA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B21-8594-475D-BA8D-8930F87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FCF7-C7F1-4503-B20B-8EBB2644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2A1E-16CD-4266-A558-3687357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F6D-AB0C-4F39-972F-F40E5E0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20B-2E5D-450B-BF34-386364D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440-FFB4-4A70-8913-A64F434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9A8-B509-4CDB-BEF2-7509520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0F7D-992E-446B-9D0A-9244B6A6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F2F-B1EE-409C-85AB-F75FB99C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462-00F2-404F-9638-22FFE1BE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8A10-02B6-4A58-8F7B-AE26985A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0929-7818-444F-AA57-C7576BC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DC98-4F73-4F5C-9462-A195F57A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3259-6C1E-46EB-A175-F0683CF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6A8C-86E7-41D2-AFEE-C18AC711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FB0-BD55-44FA-AD09-A980014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5E92-D2F5-41A8-B63C-37EAD6A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969E-9E42-4BFB-AE01-4729D85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D99E-64DF-4496-890C-E06E210C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D300-2BDF-4BEC-9AF0-56C12A2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422F-5972-494C-9B75-4DB6CAF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2591-7708-4807-8A92-D2BC5EEA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75BB-1D8E-4225-897E-2FE52754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6406-2E7C-48E6-B302-E9FAC6CD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412E-3A9E-4572-9FEB-0705EEE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7502-A158-41B9-8636-63B2C59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1C3-767D-4684-969B-0393E27A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603A-3A98-48E6-9015-F9CBB63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F633-B1E8-4B8E-A27F-8ED4A27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FAE3-F5AA-424E-B637-E4FD229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79AB-7F55-4557-9EAE-E56BB90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02FA-2937-40D0-9D5D-EB57048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5B28-8CC3-41D9-AB98-26BFAB46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03B1-6CA5-482B-91E1-70F20675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C8DC-C4D1-4E23-A574-130F0967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C3C7-B9E9-4EF6-938A-D298D518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ECF-BE79-4615-A0E0-F37144B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C1E-68FE-490F-9929-378F98B6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37B-E04E-4522-AA85-82B5B6B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6AC-1C41-4D30-ACF8-65C34EFB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65A-34A5-4528-8DAD-02AAB94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399-DF88-43A5-8AAE-40ADDBBD5D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151-E585-4BE6-A993-2E821572B4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51D4-8BB0-482A-9FEA-B54FD52E48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9B6-2DD8-46FB-8CFD-2D76943308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UkJTLpLnVAhXKbhQKHVAjBCQQjRwIBw&amp;url=http%3A%2F%2Fwww.easybiologyclass.com%2Fhardy-weinberg-equilibrium-population-evolutionary-genetics%2F&amp;psig=AFQjCNFR5waFI5_ki-ww22bnC_jzu2yntA&amp;ust=150178854861303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Hv62CprnVAhWH0RQKHbviDBUQjRwIBw&amp;url=http%3A%2F%2Fwww.biologyexams4u.com%2F2011%2F12%2Fpopulation-genetics-hardy-weinberg-law.html&amp;psig=AFQjCNFR5waFI5_ki-ww22bnC_jzu2yntA&amp;ust=1501788548613038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ltu_prnVAhWlBsAKHS4_BGUQjRwIBw&amp;url=http%3A%2F%2Fwww.bio.miami.edu%2Fdana%2F250%2F250SS13_18.html&amp;psig=AFQjCNFR5waFI5_ki-ww22bnC_jzu2yntA&amp;ust=150178854861303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ПОПУЛАЦИОНА ГЕНЕТИК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Биохемијске одлик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форезом је показано да је код ч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8% гена поли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2% гена моно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,7% се налази у хетерозиготном ст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и полиморфизам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промене у структури хромозома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које немају патолошке последице по носио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е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ина центромерног рег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Y хромоз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и присуство сателита на акроцентричним хромозом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илна места (изузетак ј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верзије хромозома (по неким аутор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Hardy-Weinbergov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авило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је основа популационе генетик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глески мате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ар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чки лек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einberg 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пулацији 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 код јединки оба по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Учесталости генских алела и генотипова у  популацији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i-Vajnbergov </a:t>
            </a:r>
            <a:r>
              <a:rPr b="1" lang="sr-CS" sz="3800" spc="-1" strike="noStrike" u="sng">
                <a:solidFill>
                  <a:srgbClr val="ff0000"/>
                </a:solidFill>
                <a:uFillTx/>
                <a:latin typeface="Arial"/>
              </a:rPr>
              <a:t>закон</a:t>
            </a: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улација од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ав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ју гене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у структуру 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равнотежу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ликом прелаза из једне генерације у дру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Фреквeнца генотипова у генерацији потомака зависи од фреквенце генских алела у родитељс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ј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енерацији</a:t>
            </a:r>
            <a:r>
              <a:rPr b="0" lang="sr-Latn-CS" sz="26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реквенца хетерозигота (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pq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аксимална је 0,5 или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же да буде већа од фрекве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једног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омозигота, али никада није већа од збира хомозиго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2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/&lt;p2+q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мална је кадa је фреквенцa aлeл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ка фреквенц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ел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а би популација одржала своју генетичку структур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требно је да следећи услови буду задовољен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игр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популација остане у панмиксиј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ут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анмикс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кује се од случајног спарива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99"/>
                </a:solidFill>
                <a:latin typeface="Arial"/>
              </a:rPr>
              <a:t>Случајно спаривање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роватноћа да јединка једног пола има шансе да буде опл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јединком другог пола код које се посматрано својство испољава на исти нач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анмиксији поред случајног спаривања потребно је 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Сваки тип укрштања даје исти број потом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Однос полова у популацији буде 1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Популација буде бесконачно велика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ликују се два типа одступања од случајног спаривањ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г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 (инбридинг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апаривање јединки које се налазе у већем степену сродст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 (аутбридинг)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 спаривање јединки које се налазе у мањем степену сродста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ф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исти/сличан нач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различите нач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да би популација стално одржавала генетичку структуру не би било 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еволуциј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0099"/>
                </a:solidFill>
                <a:latin typeface="Arial"/>
              </a:rPr>
              <a:t>Фактори еволу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- фактори који ремете генетичку структуру популације су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</a:rPr>
              <a:t>Систематски и несистематски фактор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елекциј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систематс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Мутације, миграције, генетички дрифт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несистематск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фактори еволу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ОП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Попул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скуп јединк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е врс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насељавају одређено станиште у одређено време и које могу да ступе у репродукционе одн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риродна селек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фаворизација или елиминација гена или генотипова услед диференцијалног фертилитета или диференцијалног преживљавања јед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ативна репродуктивна способност јединки -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адаптивн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вреднос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 смањења релативне репродуктивне способности је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селекциони коефицијен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доминант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а је пошто у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о време делује на дом. хомозиготе и на хетер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етни доминантни ген 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пуно пенетрабила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 спречава репродукцију свих носилаца- биће елиминисан у тој генерац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делимично пенетрабила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а спречава репродукцију дела индивидуа (парцијална селекција) и непрекидно се одржава у попул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рецесив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ра је-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елује само на рецесивне хом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куј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омозигота у корист х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етерозигота у корист хомозиг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Селекција против хомозигота у корист хетерозигот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. Српаста анемија, таласемија, дефиц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6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паста ане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 H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HbA, HbA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s-HbA, HbA2, HbS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 (има селективну предност у подручју где влада малариј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против хетерозигота у корист хомозигот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Пр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h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фактор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1   Dd, Dd,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 тел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е мајке природну селективну предност имај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и плод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Миграције-ими и емигр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ђују проток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а промене генетичке структуре зависи од тога колики је проток гена и колике су генетичке разлике између две попул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меном гена популације постају сличније по својој генетичкој структу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начин да се у популацији појав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ви г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Мут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минативне мутације се преносе на потомство из генерације у генерациј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зачетих зигота заврши као спонтани побач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спонтаних побачаја настаје услед хромозомске аб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Генетички дрифт - генетичк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случајност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мена учесталости генских алела у популацији може бити и резултат случај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 настати на два начин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тварањем из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Губљењем ниско фреквентног генског алел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. у оогенези ниско фреквентни алел се по принципу случајности расореди у полоциту и трајно се губи из популациј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е популације-становници села, једног града, једне улице..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ша врста је издељена у велики број природних популација, а највеће популационе групе су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расе човек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 (негроиди, кавказоиди и монголоид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Раса је група историјски везаних људи са заједничким фондом г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Обухвата мањи или већи број локалних попула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Претпоставило се да су расе настале искључиво због географске изолације,  а да су на њих деловали други чиниоци-селекција, генетички дриф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93560" y="1371600"/>
            <a:ext cx="7894800" cy="1878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у полиморф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азе се у непрекидном кретањ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непрекидној интеракциј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а факторима средин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енетичка структура попул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мена генетичке  структуре популације резултат је прилаг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вања на нове услове сред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време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волуцион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прост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колошк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а оптерећења представљају мутације, најчешће рецесивне, које смањују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 од најпознатијих генетичких оптерећења је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Постоје два приступа</a:t>
            </a:r>
            <a:r>
              <a:rPr b="1" lang="sr-RS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58) – гене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ка оптерећења  су степен см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адаптивне вредности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просечног генотипа у пор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ењу са најбољим генотип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Dobžansk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1964)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е јединке чија адаптивна вредност се налаз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под просечне утврђене за хетерозиготе, представљају носиоце генетичких оптерећењ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 постоје и код људи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, Krou, Miler (1956)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снову података о мртворођеној деци израчун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летални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еквивален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зноси 2 за гамет, односно 4 за зиг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Летални еквивалент-присуство једне леталне мутације или групе делимично леталних мутација.</a:t>
            </a:r>
            <a:r>
              <a:rPr b="0" i="1" lang="sr-C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настанка генетичких оптерећењ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 Класична теор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Krou i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(Мутациона теор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Већина генских локуса је 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омозигот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Мутацијама се генетичка оптерећења елиминишу из попу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еталне мутације смањују вијабилност хетерозиг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ове мутације доводе до настанка генетичких оптереће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Балансна теор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Већина генских локуса у попилацији  је у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хетерозигот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Главни значај се придаје балансној селек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Мутације су рецесивне и у хетерозиготној су комбин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инке у блиском сродству имају већи број идентичних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ефицијент инбридинга се израчунава по формули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степен сродст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 је вероватн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д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 се одр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ни гени н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у хом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готном стању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а кој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рекло oд заједничкoг пре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лапање брака у срoдств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oсaнгви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рштање у сродству смањује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арвин-ов експеримент (187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за 8 генерација се број потомака смањио за 3x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пац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% стер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1%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чина легла са 7 на 3 потомка, смртност до 4. недеље 45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бракова у сродству 40% је повећана мртвор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ост деце, а број деце са наследним малформацијама за 30% већ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Склапање брака у сродств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првим ро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цима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сарадници (1956)  су утврд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ђени недостаци су чешћи за око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ртворођеност за око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е новорођенчади за око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рт до пунолетства за 100% ве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и Грци, Египћани и Јевре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толичка црк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он у неким земљ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од 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дозвољава склапање б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ш закон дозвољава 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сродст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на изолација може да буде разлог за повећану фреквенцу склапања бракова у сродств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у структуру популације 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л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охемијске одлике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мозомски полиморфиз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 сро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ја заједничких г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оватноћа појаве хомозиго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1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љи-дец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-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иготни близан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2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ичеви, ујаци, тетк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ћ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браћ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 3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ви рођ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 и сестре од стричева, ујака, тета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r-CS" sz="54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фреквенце генских алел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Одређивање фреквенце алела код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</a:rPr>
              <a:t>моногено детерминисаних особин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Харди-Вајнбергове једна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кодоминант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крвних гр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садржи 3 крвне гру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ј једин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купан број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честалост кодоминантних алел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упан бр. особ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50920" y="350028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мултип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ем крвних груп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А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 једној популацији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 ф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г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сти мултипних алела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Квантитативна својства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 се представити на квантитативној скал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њихово испољавањ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арирају у широком опсегу па се запажају преклапања у испољавању (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нема алтернативн</a:t>
            </a:r>
            <a:r>
              <a:rPr b="1" i="1" lang="sr-RS" sz="2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 особи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. висина, тежина, ниво холестерола, крвни притис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оја 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е особине остварују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кумулативан ефек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.боја коже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црњи 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бељи бел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улат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ла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Квалитативна својств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но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њихово испољавање н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рирају у испољав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систе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нашој земљ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 Narrow"/>
              </a:rPr>
              <a:t>У Евро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крвн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рбија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ранцуска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глеска 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Шкотска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ланд 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Варира и фреквенца генских алел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Албини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а острва-8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леме Варега-Конго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орвежани и Американци-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би-0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ајцарци-0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Апачи-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99"/>
                </a:solidFill>
                <a:latin typeface="Arial"/>
              </a:rPr>
              <a:t>ПТ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урођеници-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скими-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ц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б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си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нежани и Африканци-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-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ндијанци из Бразила-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Olivera Milošević-Đorđević</cp:lastModifiedBy>
  <dcterms:modified xsi:type="dcterms:W3CDTF">2022-01-21T08:11:18Z</dcterms:modified>
  <cp:revision>174</cp:revision>
  <dc:subject/>
  <dc:title>MUTACIJE GENA</dc:title>
</cp:coreProperties>
</file>